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93439"/>
        <c:axId val="35316889"/>
      </c:barChart>
      <c:catAx>
        <c:axId val="51993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16889"/>
        <c:crosses val="autoZero"/>
        <c:auto val="1"/>
        <c:lblAlgn val="ctr"/>
        <c:lblOffset val="100"/>
        <c:noMultiLvlLbl val="0"/>
      </c:catAx>
      <c:valAx>
        <c:axId val="35316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93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862-1983-4EB8-99D8-D794FF93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CFF-44AA-4318-8114-C7C57224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091-F102-444D-B6A3-604493DA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E6D-6793-4182-96C2-E38997CF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733-05CA-4A6E-BB51-07FCFBC4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522-0B70-4FE0-9808-A8DEFF5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8CF-D819-44EF-9604-06BA5546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807-22EE-446F-854A-8F1EEC09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CDA-0401-46C6-B04A-E1EBBCC5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B15-2C39-4AFE-962E-11349C24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765-2916-4AD7-AE4A-3607FDF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896-164F-431B-8BC9-A2761D3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45F3-33FB-4214-92F8-D706F66403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