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73381"/>
        <c:axId val="46339037"/>
      </c:barChart>
      <c:catAx>
        <c:axId val="71773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39037"/>
        <c:crosses val="autoZero"/>
        <c:auto val="1"/>
        <c:lblAlgn val="ctr"/>
        <c:lblOffset val="100"/>
        <c:noMultiLvlLbl val="0"/>
      </c:catAx>
      <c:valAx>
        <c:axId val="46339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73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09E-ED34-4603-BD08-6A76BAEA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ADB-681B-49A3-AF28-932DD8E3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A78-01B9-46DC-AE83-08346A4A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CE8-29CB-4826-8362-99259B34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BA4-6653-4505-9FD2-4962FE0B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FE1-C508-445B-AE02-9B25B05C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26D-6580-44FD-B8DE-ABAE568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0F0-C5F9-40AE-8469-3833CDEA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33F-2F73-499A-B7FE-7A253E6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8C7-DB10-4DEE-AD0F-7C49C97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B58-CF42-49EF-9779-6201C2F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109-7988-4DBD-A144-BA8FF42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2C2C-CD1F-4F81-9766-D3D033011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