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188315"/>
        <c:axId val="31329322"/>
      </c:barChart>
      <c:catAx>
        <c:axId val="64188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29322"/>
        <c:crosses val="autoZero"/>
        <c:auto val="1"/>
        <c:lblAlgn val="ctr"/>
        <c:lblOffset val="100"/>
        <c:noMultiLvlLbl val="0"/>
      </c:catAx>
      <c:valAx>
        <c:axId val="31329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88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046-638F-4072-91A7-3084BDF1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246-26EB-46E7-ADF4-415ADCEB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5AD-AE77-404F-8DDF-8FEE51D7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9AC-4B8F-43C1-8CA8-07376040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A61-E90F-4456-9DD6-D22B5C99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CD3-7980-4247-872A-7456D1EC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7C4C-9053-4BED-BBE1-1A0310AA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4D8-9669-43BC-BF0A-1FB0D0C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713-1A37-4456-8438-1CFBFDF2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021-460F-45BF-9D1D-10541EC6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EF50-029D-48D5-9EFA-27B88A21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0F9-2FA4-4F94-9D2C-A38FE823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BF93B-61DA-4DD1-8A56-23DC0B8DFE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