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4621"/>
        <c:axId val="6238285"/>
      </c:barChart>
      <c:catAx>
        <c:axId val="2834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285"/>
        <c:crosses val="autoZero"/>
        <c:auto val="1"/>
        <c:lblAlgn val="ctr"/>
        <c:lblOffset val="100"/>
        <c:noMultiLvlLbl val="0"/>
      </c:catAx>
      <c:valAx>
        <c:axId val="6238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4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AB1-21BD-4D33-B5AF-73FAFD28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F13-E0D0-41A3-89FF-A6279F77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37C-F41C-4806-A07D-F8F795D8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C51-3296-4856-8591-75C5D5F0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A4E-27F0-4077-9200-72C56461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F8C-57AA-43BD-9176-2A88F95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2F0-6673-4D97-8324-784CB0C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718-FEB8-4EC3-B3B5-295B7739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D2E-776B-4AFA-9ED7-2C50D674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159-2249-47F1-9D68-B668AD7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2BA-AD5C-4092-A33B-C4045B0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4C0-4D4B-41FC-89C6-9B9BD6C7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ECCD6-DA86-4C53-B19A-6425E1062F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