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183520"/>
        <c:axId val="35456789"/>
      </c:barChart>
      <c:catAx>
        <c:axId val="821835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56789"/>
        <c:crosses val="autoZero"/>
        <c:auto val="1"/>
        <c:lblAlgn val="ctr"/>
        <c:lblOffset val="100"/>
        <c:noMultiLvlLbl val="0"/>
      </c:catAx>
      <c:valAx>
        <c:axId val="35456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1835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E6B-6184-40F7-948A-09EEC991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5F0-CA82-45AD-9391-0B9D623B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9D0-57FC-4138-B336-1E7CA687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2308-A233-494D-ADFC-C66A72B7F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6F0-15CA-4B80-8F35-9543702A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FDBF-384E-4C13-86B5-A5DCB2B7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58E-978F-489D-81E2-A364118C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599-B208-4BBF-A519-336987EB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3F4-7D5F-475E-8329-DCCD5C19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12F-69B5-49C8-8B07-A4AB907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C35-2C33-4D69-9D63-CED217A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80C-4869-46A3-A6F2-5B89CFC3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81164-4028-4A6D-825B-F97E33D380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